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150A-583E-44C0-9D46-2F91F0C5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9883-1512-489C-B49D-61795816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A593-9833-4364-9BE4-37012B94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A983-FEC6-4734-BAC7-0C46A0C8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934E-7B54-4DB8-B6E7-023AED7B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F588-7FF9-4E52-8D10-ABE1C53B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9C2F-7E66-4B16-8FD4-AD1C0291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9236-5256-4CE5-8E74-9E26B80A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AB23-7EB1-4940-ABF8-6B5D62DF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740-E1FA-4F72-8574-F811C902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84B3-FB95-42F4-969E-ABB1025F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7186-EA28-46B1-B7A3-33560C5B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7802-7C35-4381-AD11-A4F136F1C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3364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8120" y="0"/>
            <a:ext cx="57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9:29:50Z</dcterms:created>
  <dc:creator>Maria Luz</dc:creator>
  <dc:description/>
  <dc:language>en-US</dc:language>
  <cp:lastModifiedBy>Maria Luz</cp:lastModifiedBy>
  <dcterms:modified xsi:type="dcterms:W3CDTF">2011-12-21T19:30:26Z</dcterms:modified>
  <cp:revision>1</cp:revision>
  <dc:subject/>
  <dc:title>Presentación de PowerPoint</dc:title>
</cp:coreProperties>
</file>